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53C0-F2F5-4622-A0E9-6216D0658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E479-E555-47A2-AC63-0F49D5ABD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A5A6-A291-4CB8-AADB-F7002BB11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t pressure, capillary action, and transpiration contribute to the movement of water within a plant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ranspiration is the movement of water molecules out of leaves. The faster water evaporates from a plant, shown in A, the stronger the pull of water upward from the roots, shown in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0FDC-A8DD-4E9A-88F9-5C9C4AD97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t pressure, capillary action, and transpiration contribute to the movement of water within a plant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ranspiration is the movement of water molecules out of leaves. The faster water evaporates from a plant, shown in A, the stronger the pull of water upward from the roots, shown in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DCA6-ADD3-4E9F-945D-AFC4A0644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C33D-09BD-488B-AE7D-DF0172AAD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4110-055F-4ABA-9702-CE306CA64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5234-0E63-4873-BF55-F40D4D4A7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F87F-B5E5-4D41-9556-6BDF26614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5DBD-6D77-4817-AA98-96BF99F69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4D80-172B-4842-89AE-E85F42A0E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5195-1E5E-4561-AD4F-17FD5826A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the movement of sugars and water throughout the phloem and xylem as explained by the pressure-flow hypothesis. Materials move from a source cell, where photosynthesis produces a high concentration of sugars, to a sink cell, where sugars are lower in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8CBD-AC2B-4746-A942-EDFD75A7C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D4E4-61C0-4DB4-B1EE-3885E4648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the movement of sugars and water throughout the phloem and xylem as explained by the pressure-flow hypothesis. Materials move from a source cell, where photosynthesis produces a high concentration of sugars, to a sink cell, where sugars are lower in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F628-4DEE-45F7-B901-3E90FE142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the movement of sugars and water throughout the phloem and xylem as explained by the pressure-flow hypothesis. Materials move from a source cell, where photosynthesis produces a high concentration of sugars, to a sink cell, where sugars are lower in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44D8-9E0F-4651-B659-8A664674D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the movement of sugars and water throughout the phloem and xylem as explained by the pressure-flow hypothesis. Materials move from a source cell, where photosynthesis produces a high concentration of sugars, to a sink cell, where sugars are lower in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B5E5-F2CE-43AB-9963-9491DE4EF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the movement of sugars and water throughout the phloem and xylem as explained by the pressure-flow hypothesis. Materials move from a source cell, where photosynthesis produces a high concentration of sugars, to a sink cell, where sugars are lower in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3337-F45D-4531-B38E-04B2C8E06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1000-A542-4B99-8407-206DE37AD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3216-BE31-4178-9BDA-4A948FF25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35B2-6647-4934-87D7-FFFD40AA8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F77A-0BAD-42E9-A61C-6F6BA700A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917A-35BC-4F4A-99AE-3C995D3B8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8ECC-9FCC-49FC-991A-2FF6F5F5F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B040-5365-4AB6-9219-AAF07B6E8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FBB3-C69E-441A-9597-F4BB7A896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4858-1146-4704-B7F4-49C1BE8AF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5927-AC67-4649-B445-70436B5DF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y action—the result of water molecules’ ability to stick to one another and to the walls of a tube—contributes to the movement of water up the cells of xylem tissue. As shown here, capillary action causes water to move much higher in a narrow tube than in a wide tube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ying Concep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hich force—adhesion or cohesion—causes the water to stick to the walls of the glass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8574-BDAE-4BEE-96EA-74703E4E4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y action—the result of water molecules’ ability to stick to one another and to the walls of a tube—contributes to the movement of water up the cells of xylem tissue. As shown here, capillary action causes water to move much higher in a narrow tube than in a wide tube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ying Concep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hich force—adhesion or cohesion—causes the water to stick to the walls of the glass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52B1-B228-48F6-9DA0-F115ABC1B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FFB1-B878-4A25-93E1-D720109CD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567-414D-4DA9-9CA2-204B161A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EAD-38B3-4387-B784-405A6F1E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48A64-9B17-4CD5-84D7-BDDA2BCC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C76D8-B1ED-4283-86C0-109CDFD3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4809F-7698-41C8-8342-507C4289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8C62F-6810-4E24-B407-A70F85C2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DFD8D-0E0C-41F8-8974-B2D44B0C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7E44E-160C-4130-972D-77B33F33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E3C38-0095-4AC7-847E-1A740C4F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8D6EE-C5F5-4CCF-A6EC-823FF81A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F408D-E01A-4108-A890-0F673F9E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736A2-D9FA-4928-B400-980827B7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1CC-5B25-4A99-94B7-64B15457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1F8E4-E25E-4A52-AEA9-67958115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8C5EF-232C-4A55-9FCC-AB343C33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82322-E3E2-426F-93E6-4121D8B5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706AD-91E9-415F-8370-CFAEBDEC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88CF7-8C44-4DA2-B9D0-5ED0D572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0B094-725A-4EE7-856C-D7576CAE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B8638-DF27-4757-9786-D85ECC02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69353-985F-4C4C-92B0-B4BC5356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28014-7903-46A4-A2E1-1F326D81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35CEF-5E86-4039-AFF3-3799EA09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18C-C612-4F90-8102-C9793964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69639-D305-4D3D-866A-5710EF35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FB46C-1464-4DE1-8786-684BEF13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4B5F4-15DC-4411-B3FA-84783149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D0435-6CF6-4E6B-82A8-E0BE6D8E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70A97-410D-4AE2-8ADB-6305203D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DFF4C-BCD8-4377-B7ED-00487268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22679-35F8-4CBE-A94B-C5D6B246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B016E-4612-4B35-BAD4-8189333E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B53B1-263A-45D6-9AE0-AA717CD6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046C3-554D-461C-B767-35465EF7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DD51-188A-4E1A-9AC9-4FDA3FA5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55B27-9BB2-4D99-8641-B02173F6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80818-3348-4881-A0CB-F387FA4F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BFCE3-35AA-4F0C-AD91-A769B1FA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1D46-8B73-4918-84B5-DEF5D5BF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8D9C-90D5-45A0-AA71-E82A63E5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6788-94DC-4987-B983-F28E0D04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EC6A-EF60-46A6-A1BD-675CA569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1990-EF5A-4018-932B-59F92AD6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0391-6A5F-45F9-8D41-1F01FC5B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67A-5D1A-47BE-B3B8-00D4B013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03ED-DD5E-40FC-9465-F0D37760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BBE0-A531-4F70-859E-4165F9AF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428E-3D64-4B51-95BE-F63B6E4A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28F0-79FD-4357-B0A3-B2887568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81C3-0463-47DC-9FF2-419520C9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DEC46-5DCA-416A-BD7A-3339FDDD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75B4D-ECB6-4A49-8018-EC79F40E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46A2-7DAB-476A-99DC-81E640B3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BD15C-6B68-4B33-B201-EA26ACA6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4873F-446E-4C03-81D0-83D54FA7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75D-7F60-4503-9A17-4C3E2EDA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85CD-76B2-45A6-A41C-D11F8DAA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DA7D0-0F23-4599-AB2C-232FC855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AEF3E-D700-4E6F-A29E-65E530F3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1063F-9DB8-4FBB-B576-64A2747E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86F4B-AA01-4D47-ABBD-15C4247F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8C38E-C8A4-40DB-A97D-F778FFE4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D7B71-A7A6-4369-98F3-5527B91D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DD8C9-F49B-4B12-88F3-B2A3078A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2004D-59E1-498E-A0CE-BA2A69C2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9A944-BF1C-45CB-B873-1C3B3C5B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8BF-F896-4663-AE16-43ABD032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1F1A5-EB7F-423B-8F55-9DF58285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EBFC8-1F66-47A5-B3B4-F35EF0AF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FCBCF-69EA-4C03-A80F-80B30EE8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F1901-3DC8-445B-AE6D-2E69D0FC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7D773-8CA5-4F82-9466-6B12BA68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50648-C5B6-403D-A08C-4CB44FCA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E43B5-2815-4704-BA3A-75E27E44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A735A-FCC7-4B48-9145-45D5239C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C4A49-6FB9-47F8-8531-AF0D279A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6C2F8-F14E-474A-9173-683C9AC3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A7F-94A2-4B66-808F-5DB6DDB8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DA05C-1117-43CC-8DD5-15B7FB28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2EBDE-40B8-4325-8754-FC4A2331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68B5F-89A9-4919-8A3B-60E24236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557A3-630D-4FA8-A939-A116A0DF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CF1D7-7B83-45E8-B2C4-7FE887BC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FE0BD-3B3C-4B56-AF30-2718BCC2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1F842-FB4C-423C-9FC9-E5E6559C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22628-5531-41CC-84E7-6BEBB158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92F96-4B98-4F78-8B7B-5005F4F9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4E4E7-6CE9-4898-923B-F36E5650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1F4-2FD3-4C19-BEE8-5FD344D5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FF270-57BD-4243-9D9A-1ABF1E43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F911B-FFA0-41BF-9CE0-42EDACFF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53BE5-1B1D-40AD-9395-644342AE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9AF2C-76E3-4296-94FE-2B794DCA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7AB30-7AC1-4B31-99E1-38BA2060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AABE6-2024-431D-917B-0569E1DB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8E5E8-F25D-4F94-BDDA-B4DF8071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EBDB3-F0E3-4004-94F2-4A68BA13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AE53E-0B13-482F-818B-21B8E5B5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49CF0-0624-4A51-A1F8-F4AE2119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377-675A-42D5-B28D-80323482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CA6A4-D200-4AEC-8444-07D770B2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1B87A-E64B-4F65-917D-6463E4E0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891B7-BE23-42A4-84D0-0AD74AC0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FC3B3-864D-45A3-8898-80619F47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2D463-5B10-42ED-A05B-6D49B6AF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491A5-EDF3-46FD-A5B3-0A1C565C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64900-0CF4-4048-8932-6F5CA32C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0F4EB-FFED-4B8B-A248-D28F4549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3DF6B-1B8E-40DF-8E24-BE2800EE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88F9E-BC45-47CB-9CF9-8E722E22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31D-0628-4EBD-94B7-E760BEE3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49E23-146E-47E5-9B6E-F195AB0A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6DC5E-BE47-4B82-8056-9011A020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4048B-E303-4978-A9E1-FAB6F597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40186-8394-4B9C-9DBD-BC56CBEC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AFC3E-6835-4AC1-AE92-71AD3297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82D7F-60B7-4FE3-9BB7-448F2AE6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178A9-6840-4C85-A2EB-29359794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27E46-C15D-4BAB-8649-F8DB8884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513B0-9A69-44AC-8A6E-9C4642EF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71D9F-6D3A-4BCF-9526-2A1E7F66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CB4-01E3-4A69-9276-AE971EA7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2BA9F-4859-4234-80A2-B35FABB4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D7D93-04EE-4F47-A5C0-C13930C7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3C2FA-F4B2-4286-8FB9-B3795D74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53533-3FAF-4CF8-9915-E7D8690C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0DF91-C87A-4B26-8D5C-1081F85C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2B945-7990-46C1-B948-CA9BF96A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41028-D297-408B-869A-F7E1B89B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0B9F8-BBD2-49F3-B3AD-2CB15F27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FD29F-07C5-4EDA-915A-753F1DA9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25984-B161-4E2D-B22B-12F491F5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utine copy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1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2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1638000" y="-360"/>
            <a:ext cx="65516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" name="Picture 17" descr="logo_ph"/>
          <p:cNvPicPr/>
          <p:nvPr/>
        </p:nvPicPr>
        <p:blipFill>
          <a:blip r:embed="rId4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18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4B14-FD2F-4BCF-AA9F-7137234D18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bio section open3"/>
          <p:cNvPicPr/>
          <p:nvPr/>
        </p:nvPicPr>
        <p:blipFill>
          <a:blip r:embed="rId2"/>
          <a:stretch/>
        </p:blipFill>
        <p:spPr>
          <a:xfrm>
            <a:off x="0" y="0"/>
            <a:ext cx="9182160" cy="68835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3"/>
          <p:cNvSpPr/>
          <p:nvPr/>
        </p:nvSpPr>
        <p:spPr>
          <a:xfrm>
            <a:off x="-14400" y="20520"/>
            <a:ext cx="384012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291600" indent="-29160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291600" indent="-291600">
              <a:spcAft>
                <a:spcPts val="2001"/>
              </a:spcAft>
              <a:buClr>
                <a:srgbClr val="000000"/>
              </a:buClr>
              <a:buFont typeface="Arial"/>
              <a:buAutoNum type="alphaL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ftr" idx="29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sldNum" idx="30"/>
          </p:nvPr>
        </p:nvSpPr>
        <p:spPr>
          <a:xfrm>
            <a:off x="6791040" y="6183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9" descr="logo_ph"/>
          <p:cNvPicPr/>
          <p:nvPr/>
        </p:nvPicPr>
        <p:blipFill>
          <a:blip r:embed="rId3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0" y="0"/>
            <a:ext cx="9158400" cy="333360"/>
          </a:xfrm>
          <a:prstGeom prst="rect">
            <a:avLst/>
          </a:prstGeom>
          <a:solidFill>
            <a:srgbClr val="2c2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3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4" descr="red button"/>
          <p:cNvPicPr/>
          <p:nvPr/>
        </p:nvPicPr>
        <p:blipFill>
          <a:blip r:embed="rId4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15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6">
            <a:hlinkClick r:id="" action="ppaction://hlinkshowjump?jump=endshow"/>
          </p:cNvPr>
          <p:cNvSpPr/>
          <p:nvPr/>
        </p:nvSpPr>
        <p:spPr>
          <a:xfrm>
            <a:off x="7996320" y="630864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7" descr="section quizr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1028880" y="2919240"/>
            <a:ext cx="2757240" cy="5972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8" descr="QT_icon"/>
          <p:cNvPicPr/>
          <p:nvPr/>
        </p:nvPicPr>
        <p:blipFill>
          <a:blip r:embed="rId6"/>
          <a:stretch/>
        </p:blipFill>
        <p:spPr>
          <a:xfrm>
            <a:off x="5446800" y="2730600"/>
            <a:ext cx="2211480" cy="853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9"/>
          <p:cNvSpPr/>
          <p:nvPr/>
        </p:nvSpPr>
        <p:spPr>
          <a:xfrm>
            <a:off x="4017960" y="265896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0" descr="sectionQUIZ_BAR copy"/>
          <p:cNvPicPr/>
          <p:nvPr/>
        </p:nvPicPr>
        <p:blipFill>
          <a:blip r:embed="rId7"/>
          <a:stretch/>
        </p:blipFill>
        <p:spPr>
          <a:xfrm>
            <a:off x="0" y="0"/>
            <a:ext cx="4900680" cy="77148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21"/>
          <p:cNvSpPr/>
          <p:nvPr/>
        </p:nvSpPr>
        <p:spPr>
          <a:xfrm>
            <a:off x="1152360" y="2276640"/>
            <a:ext cx="23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2"/>
          <p:cNvSpPr/>
          <p:nvPr/>
        </p:nvSpPr>
        <p:spPr>
          <a:xfrm>
            <a:off x="5286240" y="22734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Laun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title"/>
          </p:nvPr>
        </p:nvSpPr>
        <p:spPr>
          <a:xfrm>
            <a:off x="14400" y="-673560"/>
            <a:ext cx="1069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24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9FE1-F879-46F1-9764-CDD12AFBBC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bio section open3"/>
          <p:cNvPicPr/>
          <p:nvPr/>
        </p:nvPicPr>
        <p:blipFill>
          <a:blip r:embed="rId2"/>
          <a:stretch/>
        </p:blipFill>
        <p:spPr>
          <a:xfrm>
            <a:off x="0" y="0"/>
            <a:ext cx="9182160" cy="688356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"/>
          <p:cNvSpPr/>
          <p:nvPr/>
        </p:nvSpPr>
        <p:spPr>
          <a:xfrm>
            <a:off x="-14400" y="20520"/>
            <a:ext cx="384012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91600" indent="-291600">
              <a:spcAft>
                <a:spcPts val="2001"/>
              </a:spcAft>
              <a:buClr>
                <a:srgbClr val="000000"/>
              </a:buClr>
              <a:buFont typeface="Arial"/>
              <a:buAutoNum type="alphaL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91600" indent="-291600">
              <a:spcAft>
                <a:spcPts val="2001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2"/>
          </p:nvPr>
        </p:nvSpPr>
        <p:spPr>
          <a:xfrm>
            <a:off x="3124080" y="662904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sldNum" idx="33"/>
          </p:nvPr>
        </p:nvSpPr>
        <p:spPr>
          <a:xfrm>
            <a:off x="6791040" y="6183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808200"/>
                <a:tab algn="l" pos="1311120"/>
                <a:tab algn="l" pos="1650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9" descr="logo_ph"/>
          <p:cNvPicPr/>
          <p:nvPr/>
        </p:nvPicPr>
        <p:blipFill>
          <a:blip r:embed="rId3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0" y="0"/>
            <a:ext cx="9158400" cy="333360"/>
          </a:xfrm>
          <a:prstGeom prst="rect">
            <a:avLst/>
          </a:prstGeom>
          <a:solidFill>
            <a:srgbClr val="2c2c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3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4" descr="red button"/>
          <p:cNvPicPr/>
          <p:nvPr/>
        </p:nvPicPr>
        <p:blipFill>
          <a:blip r:embed="rId4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15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6">
            <a:hlinkClick r:id="" action="ppaction://hlinkshowjump?jump=endshow"/>
          </p:cNvPr>
          <p:cNvSpPr/>
          <p:nvPr/>
        </p:nvSpPr>
        <p:spPr>
          <a:xfrm>
            <a:off x="7996320" y="630864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7" descr="sectionQUIZ_BAR copy"/>
          <p:cNvPicPr/>
          <p:nvPr/>
        </p:nvPicPr>
        <p:blipFill>
          <a:blip r:embed="rId5"/>
          <a:stretch/>
        </p:blipFill>
        <p:spPr>
          <a:xfrm>
            <a:off x="0" y="0"/>
            <a:ext cx="4900680" cy="77148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5"/>
          <p:cNvSpPr>
            <a:spLocks noGrp="1"/>
          </p:cNvSpPr>
          <p:nvPr>
            <p:ph type="title"/>
          </p:nvPr>
        </p:nvSpPr>
        <p:spPr>
          <a:xfrm>
            <a:off x="14400" y="-673560"/>
            <a:ext cx="1069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19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2C69-6E9B-48A6-8254-A0F51BB706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6" descr="outine copy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7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3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32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33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3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36" descr="logo_ph"/>
          <p:cNvPicPr/>
          <p:nvPr/>
        </p:nvPicPr>
        <p:blipFill>
          <a:blip r:embed="rId4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1827360" y="-360"/>
            <a:ext cx="63784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</p:txBody>
      </p:sp>
      <p:sp>
        <p:nvSpPr>
          <p:cNvPr id="61" name="Rectangle 1040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E6C7-79EA-4FA2-A774-7876EC8D191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0" descr="outine copy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4960" indent="-174960">
              <a:spcBef>
                <a:spcPts val="4000"/>
              </a:spcBef>
              <a:spcAft>
                <a:spcPts val="2999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1777320" y="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-5 Transport in Pl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arrow"/>
          <p:cNvPicPr/>
          <p:nvPr/>
        </p:nvPicPr>
        <p:blipFill>
          <a:blip r:embed="rId4"/>
          <a:stretch/>
        </p:blipFill>
        <p:spPr>
          <a:xfrm>
            <a:off x="463716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key"/>
          <p:cNvPicPr/>
          <p:nvPr/>
        </p:nvPicPr>
        <p:blipFill>
          <a:blip r:embed="rId5"/>
          <a:stretch/>
        </p:blipFill>
        <p:spPr>
          <a:xfrm>
            <a:off x="635040" y="2397240"/>
            <a:ext cx="671400" cy="4334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5"/>
          <p:cNvSpPr>
            <a:spLocks noGrp="1"/>
          </p:cNvSpPr>
          <p:nvPr>
            <p:ph type="title"/>
          </p:nvPr>
        </p:nvSpPr>
        <p:spPr>
          <a:xfrm>
            <a:off x="493884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13" name="Picture 21" descr="logo_ph"/>
          <p:cNvPicPr/>
          <p:nvPr/>
        </p:nvPicPr>
        <p:blipFill>
          <a:blip r:embed="rId6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3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1890-4C85-4DA6-96CC-1A955204A7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8" descr="outine copy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174960" indent="-174960">
              <a:spcBef>
                <a:spcPts val="40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0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11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12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0"/>
              </a:spcBef>
              <a:spcAft>
                <a:spcPts val="29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1777320" y="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-5 Transport in Pl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7" descr="arrow"/>
          <p:cNvPicPr/>
          <p:nvPr/>
        </p:nvPicPr>
        <p:blipFill>
          <a:blip r:embed="rId4"/>
          <a:stretch/>
        </p:blipFill>
        <p:spPr>
          <a:xfrm>
            <a:off x="4633920" y="101520"/>
            <a:ext cx="317520" cy="190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5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5" name="Picture 29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2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EA85-B8E9-4B98-A48A-4620335EA8E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3" descr="key"/>
          <p:cNvPicPr/>
          <p:nvPr/>
        </p:nvPicPr>
        <p:blipFill>
          <a:blip r:embed="rId6"/>
          <a:stretch/>
        </p:blipFill>
        <p:spPr>
          <a:xfrm>
            <a:off x="635040" y="2397240"/>
            <a:ext cx="67140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9" descr="outine copy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spcAft>
                <a:spcPts val="200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1777320" y="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-5 Transport in Pl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7" descr="arrow"/>
          <p:cNvPicPr/>
          <p:nvPr/>
        </p:nvPicPr>
        <p:blipFill>
          <a:blip r:embed="rId4"/>
          <a:stretch/>
        </p:blipFill>
        <p:spPr>
          <a:xfrm>
            <a:off x="463392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22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B3D4-D123-440E-B31E-A646F002BD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outine copy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74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749"/>
              </a:spcAft>
              <a:buClr>
                <a:srgbClr val="000000"/>
              </a:buClr>
              <a:buSzPct val="12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749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1777320" y="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-5 Transport in Pl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6" descr="arrow"/>
          <p:cNvPicPr/>
          <p:nvPr/>
        </p:nvPicPr>
        <p:blipFill>
          <a:blip r:embed="rId4"/>
          <a:stretch/>
        </p:blipFill>
        <p:spPr>
          <a:xfrm>
            <a:off x="463392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7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9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2731-A4E4-40F1-B35B-16E4C03BAD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9" descr="movi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spcAft>
                <a:spcPts val="2001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spcAft>
                <a:spcPts val="2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spcAft>
                <a:spcPts val="2001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spcAft>
                <a:spcPts val="2001"/>
              </a:spcAft>
              <a:buClr>
                <a:srgbClr val="000000"/>
              </a:buClr>
              <a:buSzPct val="12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4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1777320" y="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-5 Transport in Pl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6" descr="arrow"/>
          <p:cNvPicPr/>
          <p:nvPr/>
        </p:nvPicPr>
        <p:blipFill>
          <a:blip r:embed="rId4"/>
          <a:stretch/>
        </p:blipFill>
        <p:spPr>
          <a:xfrm>
            <a:off x="463392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7" descr="logo_ph"/>
          <p:cNvPicPr/>
          <p:nvPr/>
        </p:nvPicPr>
        <p:blipFill>
          <a:blip r:embed="rId5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1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9717-FCE6-4FAE-BFCE-136E991B1B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6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F67E-9477-472C-B461-5B80BAFF7A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outin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red button"/>
          <p:cNvPicPr/>
          <p:nvPr/>
        </p:nvPicPr>
        <p:blipFill>
          <a:blip r:embed="rId3"/>
          <a:stretch/>
        </p:blipFill>
        <p:spPr>
          <a:xfrm>
            <a:off x="8048520" y="6399360"/>
            <a:ext cx="1143000" cy="406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spcAft>
                <a:spcPts val="799"/>
              </a:spcAft>
              <a:buClr>
                <a:srgbClr val="0064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SzPct val="1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25"/>
          </p:nvPr>
        </p:nvSpPr>
        <p:spPr>
          <a:xfrm>
            <a:off x="91440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26"/>
          </p:nvPr>
        </p:nvSpPr>
        <p:spPr>
          <a:xfrm>
            <a:off x="2858760" y="657828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353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Times New Roman"/>
              </a:rPr>
              <a:t>Copyright Pearson Prentice H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27"/>
          </p:nvPr>
        </p:nvSpPr>
        <p:spPr>
          <a:xfrm>
            <a:off x="5994360" y="6188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609480" y="6384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1"/>
          <p:cNvSpPr/>
          <p:nvPr/>
        </p:nvSpPr>
        <p:spPr>
          <a:xfrm>
            <a:off x="8213400" y="64483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2">
            <a:hlinkClick r:id="" action="ppaction://hlinkshowjump?jump=endshow"/>
          </p:cNvPr>
          <p:cNvSpPr/>
          <p:nvPr/>
        </p:nvSpPr>
        <p:spPr>
          <a:xfrm>
            <a:off x="8053560" y="6346800"/>
            <a:ext cx="1147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1777320" y="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3-5 Transport in Pl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14" descr="arrow"/>
          <p:cNvPicPr/>
          <p:nvPr/>
        </p:nvPicPr>
        <p:blipFill>
          <a:blip r:embed="rId4"/>
          <a:stretch/>
        </p:blipFill>
        <p:spPr>
          <a:xfrm>
            <a:off x="4637160" y="101520"/>
            <a:ext cx="317520" cy="190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5" descr="key"/>
          <p:cNvPicPr/>
          <p:nvPr/>
        </p:nvPicPr>
        <p:blipFill>
          <a:blip r:embed="rId5"/>
          <a:stretch/>
        </p:blipFill>
        <p:spPr>
          <a:xfrm>
            <a:off x="635040" y="2473200"/>
            <a:ext cx="671400" cy="43344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5"/>
          <p:cNvSpPr>
            <a:spLocks noGrp="1"/>
          </p:cNvSpPr>
          <p:nvPr>
            <p:ph type="title"/>
          </p:nvPr>
        </p:nvSpPr>
        <p:spPr>
          <a:xfrm>
            <a:off x="4941360" y="0"/>
            <a:ext cx="407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20" name="Picture 17" descr="logo_ph"/>
          <p:cNvPicPr/>
          <p:nvPr/>
        </p:nvPicPr>
        <p:blipFill>
          <a:blip r:embed="rId6"/>
          <a:stretch/>
        </p:blipFill>
        <p:spPr>
          <a:xfrm>
            <a:off x="162000" y="6267600"/>
            <a:ext cx="588960" cy="44604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8"/>
          <p:cNvSpPr/>
          <p:nvPr/>
        </p:nvSpPr>
        <p:spPr>
          <a:xfrm>
            <a:off x="6816600" y="596736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DB76-56B2-4973-B6D2-F9E3DDE7B7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of 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827360" y="-360"/>
            <a:ext cx="63784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00"/>
                </a:solidFill>
                <a:latin typeface="Arial"/>
              </a:rPr>
              <a:t>23-5 Transport in Plants</a:t>
            </a:r>
            <a:endParaRPr b="1" lang="en-US" sz="3600" spc="-1" strike="noStrike">
              <a:solidFill>
                <a:srgbClr val="a5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00"/>
              </a:solidFill>
              <a:latin typeface="Arial"/>
            </a:endParaRPr>
          </a:p>
        </p:txBody>
      </p:sp>
      <p:pic>
        <p:nvPicPr>
          <p:cNvPr id="619" name="Picture 13" descr="23_05_12"/>
          <p:cNvPicPr/>
          <p:nvPr/>
        </p:nvPicPr>
        <p:blipFill>
          <a:blip r:embed="rId1"/>
          <a:stretch/>
        </p:blipFill>
        <p:spPr>
          <a:xfrm>
            <a:off x="2660760" y="663480"/>
            <a:ext cx="3774960" cy="59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99960" indent="0">
              <a:spcBef>
                <a:spcPts val="1225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ter is lost through transpiration, osmotic pressure moves water out of the vascular tissue of the lea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49" name="Picture 5" descr="23_05_11&amp;12slide"/>
          <p:cNvPicPr/>
          <p:nvPr/>
        </p:nvPicPr>
        <p:blipFill>
          <a:blip r:embed="rId1"/>
          <a:stretch/>
        </p:blipFill>
        <p:spPr>
          <a:xfrm>
            <a:off x="4908600" y="903240"/>
            <a:ext cx="3643200" cy="556416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8"/>
          <p:cNvSpPr/>
          <p:nvPr/>
        </p:nvSpPr>
        <p:spPr>
          <a:xfrm>
            <a:off x="0" y="0"/>
            <a:ext cx="188604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9"/>
          <p:cNvSpPr/>
          <p:nvPr/>
        </p:nvSpPr>
        <p:spPr>
          <a:xfrm>
            <a:off x="4881600" y="5848200"/>
            <a:ext cx="40788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10" descr="23_05_12"/>
          <p:cNvPicPr/>
          <p:nvPr/>
        </p:nvPicPr>
        <p:blipFill>
          <a:blip r:embed="rId1"/>
          <a:stretch/>
        </p:blipFill>
        <p:spPr>
          <a:xfrm>
            <a:off x="4667400" y="596880"/>
            <a:ext cx="3774960" cy="598320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vement of water out of the lea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“pulls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upward through the vascular system all the way from the ro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cess is known 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pirational pu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4626000" y="5883120"/>
            <a:ext cx="40788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Controlling Transpiration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content of the leaf is kept relatively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t of 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ater pressure in the guard cells is increased an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omata op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water is then lost through the open stomata by transpi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ter is sca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opposite occ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pressure in the leaf decreases. The guard cells respon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osing the stom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duces further water loss by limiting transpi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o much water is lost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l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. When a leaf wilts, its stomata close and transpiration slows down. This helps a plant conserve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3884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206360" indent="0">
              <a:spcBef>
                <a:spcPts val="3501"/>
              </a:spcBef>
              <a:spcAft>
                <a:spcPts val="8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How are the products of photosynthesis transported throughout a plant?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1" marL="1206360" indent="0">
              <a:spcBef>
                <a:spcPts val="3501"/>
              </a:spcBef>
              <a:spcAft>
                <a:spcPts val="8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ny plants pump sugars into their fru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ld climates, plants pump food into their roots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nter sto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tored food must be moved back into the trunk and branches of the plant before growth begins again in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Movement from Source to Sink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of phloem transport moves sugars through a plant from a source to a s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y cell in which sugars are produced by photosyn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n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y cell where the sugars are used or s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41360" y="0"/>
            <a:ext cx="4077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871120" cy="66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06360" indent="0"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0"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nutrients are pumped into or removed from the phloem system, the change in concentration causes a movement of fluid in that same directio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0"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a result, phloem is able to move nutrients in either direction to meet the nutritional needs of the pl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0"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4" descr="key"/>
          <p:cNvPicPr/>
          <p:nvPr/>
        </p:nvPicPr>
        <p:blipFill>
          <a:blip r:embed="rId1"/>
          <a:stretch/>
        </p:blipFill>
        <p:spPr>
          <a:xfrm>
            <a:off x="635040" y="1862280"/>
            <a:ext cx="671400" cy="43308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5"/>
          <p:cNvSpPr/>
          <p:nvPr/>
        </p:nvSpPr>
        <p:spPr>
          <a:xfrm>
            <a:off x="522360" y="2416320"/>
            <a:ext cx="86040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Bef>
                <a:spcPts val="876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dea that explains how phloem transport takes place is calle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sure-flow hypothes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23_05_19-20-21slide"/>
          <p:cNvPicPr/>
          <p:nvPr/>
        </p:nvPicPr>
        <p:blipFill>
          <a:blip r:embed="rId1"/>
          <a:stretch/>
        </p:blipFill>
        <p:spPr>
          <a:xfrm>
            <a:off x="4087800" y="576360"/>
            <a:ext cx="4275000" cy="576252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28"/>
          <p:cNvSpPr/>
          <p:nvPr/>
        </p:nvSpPr>
        <p:spPr>
          <a:xfrm>
            <a:off x="5573880" y="838080"/>
            <a:ext cx="1261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9"/>
          <p:cNvSpPr/>
          <p:nvPr/>
        </p:nvSpPr>
        <p:spPr>
          <a:xfrm>
            <a:off x="5638680" y="2689200"/>
            <a:ext cx="124164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s produced during photosynthesis are pumped in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loem (sour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6748560" y="534960"/>
            <a:ext cx="1663560" cy="2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5956200" y="952560"/>
            <a:ext cx="77472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5943600" y="2692440"/>
            <a:ext cx="8128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5587920" y="812880"/>
            <a:ext cx="18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 molec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2776680" y="47624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1"/>
          <p:cNvSpPr/>
          <p:nvPr/>
        </p:nvSpPr>
        <p:spPr>
          <a:xfrm>
            <a:off x="2776680" y="5408640"/>
            <a:ext cx="15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sug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2278080" y="5092560"/>
            <a:ext cx="49068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278080" y="5757840"/>
            <a:ext cx="490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2165400" y="4605480"/>
            <a:ext cx="213372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5"/>
          <p:cNvSpPr/>
          <p:nvPr/>
        </p:nvSpPr>
        <p:spPr>
          <a:xfrm>
            <a:off x="2066760" y="4722840"/>
            <a:ext cx="2102040" cy="1393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6"/>
          <p:cNvSpPr/>
          <p:nvPr/>
        </p:nvSpPr>
        <p:spPr>
          <a:xfrm>
            <a:off x="4278240" y="795240"/>
            <a:ext cx="12844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6654960" y="4381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loe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2"/>
          <p:cNvSpPr/>
          <p:nvPr/>
        </p:nvSpPr>
        <p:spPr>
          <a:xfrm>
            <a:off x="7607160" y="42552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ylem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35"/>
          <p:cNvSpPr/>
          <p:nvPr/>
        </p:nvSpPr>
        <p:spPr>
          <a:xfrm>
            <a:off x="5559480" y="2176560"/>
            <a:ext cx="490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36"/>
          <p:cNvSpPr/>
          <p:nvPr/>
        </p:nvSpPr>
        <p:spPr>
          <a:xfrm>
            <a:off x="5559480" y="2408400"/>
            <a:ext cx="490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33"/>
          <p:cNvSpPr/>
          <p:nvPr/>
        </p:nvSpPr>
        <p:spPr>
          <a:xfrm>
            <a:off x="5322960" y="1787400"/>
            <a:ext cx="730080" cy="10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34"/>
          <p:cNvSpPr/>
          <p:nvPr/>
        </p:nvSpPr>
        <p:spPr>
          <a:xfrm flipV="1">
            <a:off x="5311800" y="1925280"/>
            <a:ext cx="782640" cy="9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5472000" y="2681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365 0 E">
                                      <p:cBhvr>
                                        <p:cTn id="90" dur="2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365 0 E">
                                      <p:cBhvr>
                                        <p:cTn id="92" dur="2000" fill="hold"/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lem tissue forms a continuous set of tubes that runs from the roots through stems and out into the spongy mesophyll of l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transport and root pressure cause water to move from soil into plant ro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action and transpiration also are needed to transport water and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6" descr="23_05_19-20-21slide"/>
          <p:cNvPicPr/>
          <p:nvPr/>
        </p:nvPicPr>
        <p:blipFill>
          <a:blip r:embed="rId1"/>
          <a:stretch/>
        </p:blipFill>
        <p:spPr>
          <a:xfrm>
            <a:off x="4084560" y="574560"/>
            <a:ext cx="4275360" cy="576288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ugar concentrations increase in the phloem, water from the xylem moves in by osm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5880240" y="973080"/>
            <a:ext cx="8762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8"/>
          <p:cNvSpPr/>
          <p:nvPr/>
        </p:nvSpPr>
        <p:spPr>
          <a:xfrm>
            <a:off x="5918040" y="2760840"/>
            <a:ext cx="83844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4"/>
          <p:cNvSpPr/>
          <p:nvPr/>
        </p:nvSpPr>
        <p:spPr>
          <a:xfrm>
            <a:off x="6858000" y="425520"/>
            <a:ext cx="148608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2776680" y="47624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2776680" y="5408640"/>
            <a:ext cx="15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sug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7"/>
          <p:cNvSpPr/>
          <p:nvPr/>
        </p:nvSpPr>
        <p:spPr>
          <a:xfrm>
            <a:off x="2278080" y="5092560"/>
            <a:ext cx="49068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8"/>
          <p:cNvSpPr/>
          <p:nvPr/>
        </p:nvSpPr>
        <p:spPr>
          <a:xfrm>
            <a:off x="2278080" y="5757840"/>
            <a:ext cx="490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9"/>
          <p:cNvSpPr/>
          <p:nvPr/>
        </p:nvSpPr>
        <p:spPr>
          <a:xfrm>
            <a:off x="2165400" y="4605480"/>
            <a:ext cx="213372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0"/>
          <p:cNvSpPr/>
          <p:nvPr/>
        </p:nvSpPr>
        <p:spPr>
          <a:xfrm>
            <a:off x="2066760" y="4722840"/>
            <a:ext cx="2102040" cy="1393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2"/>
          <p:cNvSpPr/>
          <p:nvPr/>
        </p:nvSpPr>
        <p:spPr>
          <a:xfrm>
            <a:off x="4245120" y="696960"/>
            <a:ext cx="1306440" cy="12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23"/>
          <p:cNvSpPr/>
          <p:nvPr/>
        </p:nvSpPr>
        <p:spPr>
          <a:xfrm flipH="1">
            <a:off x="7821720" y="2232000"/>
            <a:ext cx="49032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24"/>
          <p:cNvSpPr/>
          <p:nvPr/>
        </p:nvSpPr>
        <p:spPr>
          <a:xfrm flipH="1">
            <a:off x="7821720" y="2548080"/>
            <a:ext cx="49032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9"/>
          <p:cNvSpPr/>
          <p:nvPr/>
        </p:nvSpPr>
        <p:spPr>
          <a:xfrm>
            <a:off x="5587920" y="812880"/>
            <a:ext cx="18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 molec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30"/>
          <p:cNvSpPr/>
          <p:nvPr/>
        </p:nvSpPr>
        <p:spPr>
          <a:xfrm>
            <a:off x="6654960" y="4381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loe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1"/>
          <p:cNvSpPr/>
          <p:nvPr/>
        </p:nvSpPr>
        <p:spPr>
          <a:xfrm>
            <a:off x="7607160" y="42552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ylem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32"/>
          <p:cNvSpPr/>
          <p:nvPr/>
        </p:nvSpPr>
        <p:spPr>
          <a:xfrm>
            <a:off x="5472000" y="2681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615 -0.02037 -0.03212 -0.04074 -0.04879 -0.04282 C -0.06545 -0.0449 -0.08281 -0.02893 -0.1 -0.01273 E">
                                      <p:cBhvr>
                                        <p:cTn id="98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615 -0.02037 -0.03212 -0.04074 -0.04879 -0.04282 C -0.06545 -0.0449 -0.08281 -0.02893 -0.1 -0.01273 E">
                                      <p:cBhvr>
                                        <p:cTn id="100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10" descr="23_05_19-20-21slide"/>
          <p:cNvPicPr/>
          <p:nvPr/>
        </p:nvPicPr>
        <p:blipFill>
          <a:blip r:embed="rId1"/>
          <a:stretch/>
        </p:blipFill>
        <p:spPr>
          <a:xfrm>
            <a:off x="4084560" y="574560"/>
            <a:ext cx="4268880" cy="575496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7" name="Rectangle 11"/>
          <p:cNvSpPr/>
          <p:nvPr/>
        </p:nvSpPr>
        <p:spPr>
          <a:xfrm>
            <a:off x="5854680" y="1076400"/>
            <a:ext cx="82872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2"/>
          <p:cNvSpPr/>
          <p:nvPr/>
        </p:nvSpPr>
        <p:spPr>
          <a:xfrm>
            <a:off x="5934240" y="2733840"/>
            <a:ext cx="793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5"/>
          <p:cNvSpPr/>
          <p:nvPr/>
        </p:nvSpPr>
        <p:spPr>
          <a:xfrm>
            <a:off x="6985080" y="507960"/>
            <a:ext cx="140652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9"/>
          <p:cNvSpPr/>
          <p:nvPr/>
        </p:nvSpPr>
        <p:spPr>
          <a:xfrm>
            <a:off x="2776680" y="47624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0"/>
          <p:cNvSpPr/>
          <p:nvPr/>
        </p:nvSpPr>
        <p:spPr>
          <a:xfrm>
            <a:off x="2776680" y="5408640"/>
            <a:ext cx="15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sug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31"/>
          <p:cNvSpPr/>
          <p:nvPr/>
        </p:nvSpPr>
        <p:spPr>
          <a:xfrm>
            <a:off x="2278080" y="5092560"/>
            <a:ext cx="49068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32"/>
          <p:cNvSpPr/>
          <p:nvPr/>
        </p:nvSpPr>
        <p:spPr>
          <a:xfrm>
            <a:off x="2278080" y="5757840"/>
            <a:ext cx="490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33"/>
          <p:cNvSpPr/>
          <p:nvPr/>
        </p:nvSpPr>
        <p:spPr>
          <a:xfrm>
            <a:off x="2165400" y="4605480"/>
            <a:ext cx="213372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34"/>
          <p:cNvSpPr/>
          <p:nvPr/>
        </p:nvSpPr>
        <p:spPr>
          <a:xfrm>
            <a:off x="2066760" y="4722840"/>
            <a:ext cx="2102040" cy="1393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5"/>
          <p:cNvSpPr/>
          <p:nvPr/>
        </p:nvSpPr>
        <p:spPr>
          <a:xfrm>
            <a:off x="4255920" y="708120"/>
            <a:ext cx="1600200" cy="12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ovement causes an increase in pressure at that point, forcing nutrient-rich fluid to move through the phloem from nutrient-producing regions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7"/>
          <p:cNvSpPr/>
          <p:nvPr/>
        </p:nvSpPr>
        <p:spPr>
          <a:xfrm>
            <a:off x="7174080" y="522360"/>
            <a:ext cx="0" cy="49032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8"/>
          <p:cNvSpPr/>
          <p:nvPr/>
        </p:nvSpPr>
        <p:spPr>
          <a:xfrm>
            <a:off x="7338960" y="352440"/>
            <a:ext cx="0" cy="490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39"/>
          <p:cNvSpPr/>
          <p:nvPr/>
        </p:nvSpPr>
        <p:spPr>
          <a:xfrm>
            <a:off x="7935840" y="0"/>
            <a:ext cx="642960" cy="5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40"/>
          <p:cNvSpPr/>
          <p:nvPr/>
        </p:nvSpPr>
        <p:spPr>
          <a:xfrm>
            <a:off x="6802560" y="3436920"/>
            <a:ext cx="752400" cy="9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5"/>
          <p:cNvSpPr/>
          <p:nvPr/>
        </p:nvSpPr>
        <p:spPr>
          <a:xfrm>
            <a:off x="5587920" y="812880"/>
            <a:ext cx="18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 molec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6"/>
          <p:cNvSpPr/>
          <p:nvPr/>
        </p:nvSpPr>
        <p:spPr>
          <a:xfrm>
            <a:off x="6654960" y="4381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loe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47"/>
          <p:cNvSpPr/>
          <p:nvPr/>
        </p:nvSpPr>
        <p:spPr>
          <a:xfrm>
            <a:off x="7607160" y="42552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ylem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8"/>
          <p:cNvSpPr/>
          <p:nvPr/>
        </p:nvSpPr>
        <p:spPr>
          <a:xfrm>
            <a:off x="5472000" y="2681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2412 L 1.38889E-006 0.45717 E">
                                      <p:cBhvr>
                                        <p:cTn id="106" dur="2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23171 L -4.16667E-006 0.45717 E">
                                      <p:cBhvr>
                                        <p:cTn id="108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oward a region that uses these nutrients (sin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5" descr="23_05_22-23slide"/>
          <p:cNvPicPr/>
          <p:nvPr/>
        </p:nvPicPr>
        <p:blipFill>
          <a:blip r:embed="rId1"/>
          <a:stretch/>
        </p:blipFill>
        <p:spPr>
          <a:xfrm>
            <a:off x="4178160" y="496800"/>
            <a:ext cx="4206960" cy="561816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9"/>
          <p:cNvSpPr/>
          <p:nvPr/>
        </p:nvSpPr>
        <p:spPr>
          <a:xfrm>
            <a:off x="6108840" y="5905440"/>
            <a:ext cx="22222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7645320" y="58165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ylem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7"/>
          <p:cNvSpPr/>
          <p:nvPr/>
        </p:nvSpPr>
        <p:spPr>
          <a:xfrm>
            <a:off x="6781680" y="580392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loe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25"/>
          <p:cNvSpPr/>
          <p:nvPr/>
        </p:nvSpPr>
        <p:spPr>
          <a:xfrm>
            <a:off x="7283520" y="12794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6"/>
          <p:cNvSpPr/>
          <p:nvPr/>
        </p:nvSpPr>
        <p:spPr>
          <a:xfrm>
            <a:off x="7283520" y="1925640"/>
            <a:ext cx="15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sug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27"/>
          <p:cNvSpPr/>
          <p:nvPr/>
        </p:nvSpPr>
        <p:spPr>
          <a:xfrm>
            <a:off x="6784920" y="1609560"/>
            <a:ext cx="49068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8"/>
          <p:cNvSpPr/>
          <p:nvPr/>
        </p:nvSpPr>
        <p:spPr>
          <a:xfrm>
            <a:off x="6784920" y="2274840"/>
            <a:ext cx="490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6672240" y="1122480"/>
            <a:ext cx="213372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6573960" y="1239840"/>
            <a:ext cx="2101680" cy="1393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1"/>
          <p:cNvSpPr/>
          <p:nvPr/>
        </p:nvSpPr>
        <p:spPr>
          <a:xfrm>
            <a:off x="4287960" y="4387680"/>
            <a:ext cx="128412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37"/>
          <p:cNvSpPr/>
          <p:nvPr/>
        </p:nvSpPr>
        <p:spPr>
          <a:xfrm>
            <a:off x="7227720" y="2900520"/>
            <a:ext cx="0" cy="49032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38"/>
          <p:cNvSpPr/>
          <p:nvPr/>
        </p:nvSpPr>
        <p:spPr>
          <a:xfrm>
            <a:off x="7392960" y="2730600"/>
            <a:ext cx="0" cy="490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9"/>
          <p:cNvSpPr/>
          <p:nvPr/>
        </p:nvSpPr>
        <p:spPr>
          <a:xfrm>
            <a:off x="6967440" y="2660760"/>
            <a:ext cx="642960" cy="54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41"/>
          <p:cNvSpPr/>
          <p:nvPr/>
        </p:nvSpPr>
        <p:spPr>
          <a:xfrm>
            <a:off x="4908600" y="5311800"/>
            <a:ext cx="752400" cy="9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8"/>
          <p:cNvSpPr/>
          <p:nvPr/>
        </p:nvSpPr>
        <p:spPr>
          <a:xfrm>
            <a:off x="5060880" y="566244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k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81481E-006 L -1.38889E-006 0.33033 E">
                                      <p:cBhvr>
                                        <p:cTn id="114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6 L 3.05556E-006 0.33333 E">
                                      <p:cBhvr>
                                        <p:cTn id="116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5" descr="23_05_22-23slide"/>
          <p:cNvPicPr/>
          <p:nvPr/>
        </p:nvPicPr>
        <p:blipFill>
          <a:blip r:embed="rId1"/>
          <a:stretch/>
        </p:blipFill>
        <p:spPr>
          <a:xfrm>
            <a:off x="4178160" y="496800"/>
            <a:ext cx="4206960" cy="561816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Nutrient Transport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art of a plant actively absorbs nutrients from the phloem, osmosis causes water to fo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ecreases pressure and causes a movement of fluid in the phloem toward the s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7283520" y="12794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7283520" y="1925640"/>
            <a:ext cx="154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ment of sug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2"/>
          <p:cNvSpPr/>
          <p:nvPr/>
        </p:nvSpPr>
        <p:spPr>
          <a:xfrm>
            <a:off x="6784920" y="1609560"/>
            <a:ext cx="49068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"/>
          <p:cNvSpPr/>
          <p:nvPr/>
        </p:nvSpPr>
        <p:spPr>
          <a:xfrm>
            <a:off x="6784920" y="2274840"/>
            <a:ext cx="490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4"/>
          <p:cNvSpPr/>
          <p:nvPr/>
        </p:nvSpPr>
        <p:spPr>
          <a:xfrm>
            <a:off x="6672240" y="1122480"/>
            <a:ext cx="213372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5"/>
          <p:cNvSpPr/>
          <p:nvPr/>
        </p:nvSpPr>
        <p:spPr>
          <a:xfrm>
            <a:off x="6573960" y="1239840"/>
            <a:ext cx="2101680" cy="1393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7"/>
          <p:cNvSpPr/>
          <p:nvPr/>
        </p:nvSpPr>
        <p:spPr>
          <a:xfrm>
            <a:off x="4278240" y="4387680"/>
            <a:ext cx="1382760" cy="12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9"/>
          <p:cNvSpPr/>
          <p:nvPr/>
        </p:nvSpPr>
        <p:spPr>
          <a:xfrm flipH="1">
            <a:off x="7090920" y="5322960"/>
            <a:ext cx="490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20"/>
          <p:cNvSpPr/>
          <p:nvPr/>
        </p:nvSpPr>
        <p:spPr>
          <a:xfrm flipH="1">
            <a:off x="7101000" y="5532480"/>
            <a:ext cx="490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1"/>
          <p:cNvSpPr/>
          <p:nvPr/>
        </p:nvSpPr>
        <p:spPr>
          <a:xfrm>
            <a:off x="6149880" y="5867280"/>
            <a:ext cx="57780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28"/>
          <p:cNvSpPr/>
          <p:nvPr/>
        </p:nvSpPr>
        <p:spPr>
          <a:xfrm>
            <a:off x="6846840" y="5921280"/>
            <a:ext cx="14256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9"/>
          <p:cNvSpPr/>
          <p:nvPr/>
        </p:nvSpPr>
        <p:spPr>
          <a:xfrm>
            <a:off x="7645320" y="58165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ylem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30"/>
          <p:cNvSpPr/>
          <p:nvPr/>
        </p:nvSpPr>
        <p:spPr>
          <a:xfrm>
            <a:off x="6781680" y="5803920"/>
            <a:ext cx="10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loe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60880" y="566244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k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85 L -0.10469 -0.00185 E">
                                      <p:cBhvr>
                                        <p:cTn id="122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85 L -0.10469 -0.00185 E">
                                      <p:cBhvr>
                                        <p:cTn id="124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5335560" y="2662200"/>
            <a:ext cx="25462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plant stem, water moves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to roots through xyle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to leaves through xyle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s to roots through phloe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to leaves through phloe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4"/>
          <p:cNvSpPr/>
          <p:nvPr/>
        </p:nvSpPr>
        <p:spPr>
          <a:xfrm>
            <a:off x="949320" y="243828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5" descr="1"/>
          <p:cNvPicPr/>
          <p:nvPr/>
        </p:nvPicPr>
        <p:blipFill>
          <a:blip r:embed="rId1"/>
          <a:stretch/>
        </p:blipFill>
        <p:spPr>
          <a:xfrm>
            <a:off x="241200" y="1022400"/>
            <a:ext cx="585720" cy="5238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6" descr="A"/>
          <p:cNvPicPr/>
          <p:nvPr/>
        </p:nvPicPr>
        <p:blipFill>
          <a:blip r:embed="rId2"/>
          <a:stretch/>
        </p:blipFill>
        <p:spPr>
          <a:xfrm>
            <a:off x="236520" y="240660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is NOT involved in the movement of water in xylem tissu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m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949320" y="285444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5" descr="A"/>
          <p:cNvPicPr/>
          <p:nvPr/>
        </p:nvPicPr>
        <p:blipFill>
          <a:blip r:embed="rId1"/>
          <a:stretch/>
        </p:blipFill>
        <p:spPr>
          <a:xfrm>
            <a:off x="236520" y="2822400"/>
            <a:ext cx="582480" cy="51912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6" descr="2"/>
          <p:cNvPicPr/>
          <p:nvPr/>
        </p:nvPicPr>
        <p:blipFill>
          <a:blip r:embed="rId2"/>
          <a:stretch/>
        </p:blipFill>
        <p:spPr>
          <a:xfrm>
            <a:off x="237960" y="1022400"/>
            <a:ext cx="58608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utrients are pumped into the phloem system of a plant, the increased concen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fluid to move into the syste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fluid to move out of the system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no effect on the movement of flui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fluid to move into the xylem vessel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4" descr="3"/>
          <p:cNvPicPr/>
          <p:nvPr/>
        </p:nvPicPr>
        <p:blipFill>
          <a:blip r:embed="rId1"/>
          <a:stretch/>
        </p:blipFill>
        <p:spPr>
          <a:xfrm>
            <a:off x="236520" y="1022400"/>
            <a:ext cx="585720" cy="520560"/>
          </a:xfrm>
          <a:prstGeom prst="rect">
            <a:avLst/>
          </a:prstGeom>
          <a:ln w="0">
            <a:noFill/>
          </a:ln>
        </p:spPr>
      </p:pic>
      <p:sp>
        <p:nvSpPr>
          <p:cNvPr id="803" name="Rectangle 5"/>
          <p:cNvSpPr/>
          <p:nvPr/>
        </p:nvSpPr>
        <p:spPr>
          <a:xfrm>
            <a:off x="949320" y="2225520"/>
            <a:ext cx="7731000" cy="45108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6" descr="A"/>
          <p:cNvPicPr/>
          <p:nvPr/>
        </p:nvPicPr>
        <p:blipFill>
          <a:blip r:embed="rId2"/>
          <a:stretch/>
        </p:blipFill>
        <p:spPr>
          <a:xfrm>
            <a:off x="236520" y="2193840"/>
            <a:ext cx="5824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plant, sugar is moved from source cells to sink cells by a proces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loem transpor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lem transpor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mosi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4"/>
          <p:cNvSpPr/>
          <p:nvPr/>
        </p:nvSpPr>
        <p:spPr>
          <a:xfrm>
            <a:off x="949320" y="2239920"/>
            <a:ext cx="7731000" cy="42696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5" descr="A"/>
          <p:cNvPicPr/>
          <p:nvPr/>
        </p:nvPicPr>
        <p:blipFill>
          <a:blip r:embed="rId1"/>
          <a:stretch/>
        </p:blipFill>
        <p:spPr>
          <a:xfrm>
            <a:off x="236520" y="2208240"/>
            <a:ext cx="582480" cy="5191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6" descr="4"/>
          <p:cNvPicPr/>
          <p:nvPr/>
        </p:nvPicPr>
        <p:blipFill>
          <a:blip r:embed="rId2"/>
          <a:stretch/>
        </p:blipFill>
        <p:spPr>
          <a:xfrm>
            <a:off x="236520" y="1022400"/>
            <a:ext cx="58572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Footer Placeholder 4"/>
          <p:cNvSpPr/>
          <p:nvPr/>
        </p:nvSpPr>
        <p:spPr>
          <a:xfrm>
            <a:off x="3124080" y="6629400"/>
            <a:ext cx="2895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400" y="165240"/>
            <a:ext cx="106992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5028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ery tall trees, which of the following is primarily involved in moving water to the top of the tre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irational pu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 press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9280">
              <a:spcAft>
                <a:spcPts val="1749"/>
              </a:spcAft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4"/>
          <p:cNvSpPr/>
          <p:nvPr/>
        </p:nvSpPr>
        <p:spPr>
          <a:xfrm>
            <a:off x="949320" y="2668680"/>
            <a:ext cx="7731000" cy="450720"/>
          </a:xfrm>
          <a:prstGeom prst="rect">
            <a:avLst/>
          </a:prstGeom>
          <a:solidFill>
            <a:srgbClr val="00cc00">
              <a:alpha val="2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5" descr="A"/>
          <p:cNvPicPr/>
          <p:nvPr/>
        </p:nvPicPr>
        <p:blipFill>
          <a:blip r:embed="rId1"/>
          <a:stretch/>
        </p:blipFill>
        <p:spPr>
          <a:xfrm>
            <a:off x="236520" y="2637000"/>
            <a:ext cx="582480" cy="51912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6" descr="5"/>
          <p:cNvPicPr/>
          <p:nvPr/>
        </p:nvPicPr>
        <p:blipFill>
          <a:blip r:embed="rId2"/>
          <a:stretch/>
        </p:blipFill>
        <p:spPr>
          <a:xfrm>
            <a:off x="236520" y="1022400"/>
            <a:ext cx="58572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3884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206360" indent="0">
              <a:spcBef>
                <a:spcPts val="3501"/>
              </a:spcBef>
              <a:spcAft>
                <a:spcPts val="8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How is water transported throughout a plant?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29239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ND OF SE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72880" y="1095480"/>
            <a:ext cx="88711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206360" indent="0">
              <a:spcBef>
                <a:spcPts val="3501"/>
              </a:spcBef>
              <a:spcAft>
                <a:spcPts val="8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bination of root pressure, capillary action, and transpiration provides enough force to move water through the xylem tissue of even the tallest pla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sion is the attraction of molecules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tance to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he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attraction betwe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li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ndency of water to rise in a thin tube i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lla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attracted to the walls of the tube, and water molecules are attracted to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5" descr="23_05_07&amp;08slide"/>
          <p:cNvPicPr/>
          <p:nvPr/>
        </p:nvPicPr>
        <p:blipFill>
          <a:blip r:embed="rId1"/>
          <a:stretch/>
        </p:blipFill>
        <p:spPr>
          <a:xfrm>
            <a:off x="4633920" y="569880"/>
            <a:ext cx="372744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4299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action causes water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ve much higher in a narrow tu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 in a wide t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5" descr="23_05_07&amp;08slide"/>
          <p:cNvPicPr/>
          <p:nvPr/>
        </p:nvPicPr>
        <p:blipFill>
          <a:blip r:embed="rId1"/>
          <a:stretch/>
        </p:blipFill>
        <p:spPr>
          <a:xfrm>
            <a:off x="4257720" y="647640"/>
            <a:ext cx="376704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72520" y="1095120"/>
            <a:ext cx="86425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y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racheids and vessel elements form hollow connected tubes in a pl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action in these structur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uses water to rise well above the level of the gr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oter Placeholder 4"/>
          <p:cNvSpPr/>
          <p:nvPr/>
        </p:nvSpPr>
        <p:spPr>
          <a:xfrm>
            <a:off x="2859120" y="6578640"/>
            <a:ext cx="2895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35353"/>
                </a:solidFill>
                <a:latin typeface="Arial"/>
              </a:rPr>
              <a:t>Copyright Pearson Prentice Hal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35600" y="0"/>
            <a:ext cx="4076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Water Pressure</a:t>
            </a:r>
            <a:endParaRPr b="1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72880" y="1095120"/>
            <a:ext cx="85471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00"/>
                </a:solidFill>
                <a:latin typeface="Arial"/>
              </a:rPr>
              <a:t>Transpiration</a:t>
            </a:r>
            <a:endParaRPr b="1" lang="en-US" sz="2800" spc="-1" strike="noStrike">
              <a:solidFill>
                <a:srgbClr val="0064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all plants, the major force in water transport comes from the evaporation of water from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this type of evaporation is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06:42:51Z</dcterms:created>
  <dc:creator>Vikas</dc:creator>
  <dc:description/>
  <dc:language>en-US</dc:language>
  <cp:lastModifiedBy>MVanElli</cp:lastModifiedBy>
  <dcterms:modified xsi:type="dcterms:W3CDTF">2011-01-18T15:41:31Z</dcterms:modified>
  <cp:revision>61</cp:revision>
  <dc:subject/>
  <dc:title>Biology</dc:title>
</cp:coreProperties>
</file>